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911A-B4B8-4F39-84C1-13FB36F6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84AF-B774-4E78-9103-0F502B88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E97C-AB7D-41FB-B7FA-98A2C073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370-4F7D-4E58-B2A1-5CE10C29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9E9C8-27AE-4F66-96BB-79452DC3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9F9A4-806B-4291-946A-9B0A8D0F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D288E-488C-4061-AD4C-7F857565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99972-55A3-4926-B5E2-4FF93D80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9EA27-1D65-4CF4-A7F8-703E2FB0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387F5-0F98-4AFD-8B2A-A450F87D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F3515-EB51-42B5-A7A5-C24D45C7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FDE-AD43-4323-B0A4-BD673D4E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70F68-968F-44B7-82ED-7A701654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3795A1-8E5E-4E37-BB6E-946E4CE2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15E1E-B8BB-42D2-BF25-075F8C39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4EFC3-4B7D-4E2C-95C2-E92683EB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F195F-B5CE-478A-AD4D-073987C9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A9ACF-7290-4D59-B93E-F0CC6200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28E7F-D073-4197-A261-7DFCF27E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8370C1-AAAB-4EF1-98F4-A51802C1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8A193-C190-4620-9191-8E65CE54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72CCD-045B-4327-BB0A-920B3AE1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6EA4-0AF1-4E62-8C6B-5F7DD707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06B32-9621-4663-AC19-8EE314F7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36E5C-3B9F-4A37-9CCB-0E74B55B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77EE3-0A38-4D3A-A250-C710BC5B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1B07C8-DD91-4A3D-98DA-85662B7D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E2BFB-7744-48DC-8339-04A4235C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2FC8F-7190-428D-B580-80B7E487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5F926-9133-49B3-99C7-25D6EEF4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09408-079B-41C1-BF2B-3DBE7C34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98745-5232-40BD-834D-AD95A276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9CFCA-97AF-4489-A52E-C260F929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BD7C-7548-4FBD-B4C9-68C464C0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76EF1-EDA8-4B61-A0BF-5C4E7EFA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F470D7-E2DF-4A5B-B7AE-7AC57A25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F973FE-C5A6-48C3-B387-F72E623A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7A6A40-6C64-4BAB-B2D4-9C2EFA8D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F35E6-F23B-4751-9564-15678EE2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4DA096-0AED-4352-8BE6-609CDBD4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DEC198-66F4-4B8C-95E5-43CE9981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B09CFB-534B-4C85-B923-794890E1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B20540-511F-451B-8C14-FA156453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625C3-1128-4C52-85E4-13321B06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EDA8-85A0-4FB5-96A2-EB1A913F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B426E-12D8-4DFF-AB52-7E27C85F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2F490-5460-4584-AF6B-1B7B596A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6BEE9-A6CC-4ED7-A224-1472EC10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F6EEA-E0FE-4EF0-A33C-AAD43B61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659481-4B16-4167-9651-375B3776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32F10-A08B-47F2-A3C8-5976CB5A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8241D-74E8-40AB-ABCC-08EE1F65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F1DD8-3B0F-4A96-A082-7A0019D3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FC203-D199-4A9A-87D7-E50CC7D7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4580D-CD44-4EE2-915A-B0717CD4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7477-4607-4F67-A38E-A191D7D6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1F36F-AED2-4558-84FD-6572B36E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80E9D5-AF7B-478E-85BC-A2E19AB1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D326D8-5A3E-4D0E-9532-4395FA43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D8F218-A2E3-4F1D-9EE2-EA9F833D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89DA87-95B1-403D-AEFB-B6D093BA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4C3CD-B709-4D9E-B52E-BAFCDDF6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AEA451-167B-4D11-AC5E-01748509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0AD536-8F06-42EB-BAF9-C22F163C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6D1129-A472-4225-933A-24594391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5AA0D-42A9-4D01-80BE-6BB0A431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6BEF-2CC2-4738-A9F4-AE3BB719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01801-FEB1-497F-8955-3E472A6B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F2A56B-B88C-4913-9EF1-6A3C0986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F6A164-A32B-4963-BD67-013279D68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30B61-B9B7-4181-8364-B1493CDA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45573-C049-4353-A272-6847A474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324EB-7900-48F9-8FB9-FF6210E5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16BEB-16D0-4936-9AFC-A2DCE2EE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0F6CC-0141-4B13-A206-A12045DF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40D39-5059-48DC-BA96-7F81CFFE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593B5-05FA-4CF3-AE3E-FB41A9C7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7540-B05D-4264-906A-E52964F0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9730A-848A-43A7-BC26-DA4F458E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86520-0731-478C-A08B-1C5166E7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D1F4B-59FC-41BB-9DDE-B2395AD4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D00AF-CF42-479D-AA73-5C1F4BA0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74208-F559-43E4-A777-AD687A6B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396-49CF-4B04-91C4-1116740D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FD68-AC90-4110-843B-85CD50799C79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F1DD-A124-457A-AF7C-1E76005CFED7}" type="slidenum">
              <a:rPr b="1" lang="en-A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8358-D7B2-4E1E-887E-B7439FEF28D2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F912-00DE-4819-8462-9680F857E205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0BAA-2E8C-4273-A17B-A736113774B6}" type="slidenum">
              <a:rPr b="1" lang="en-A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7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795B-FE90-4843-A2FF-082D15AE5077}" type="slidenum">
              <a:rPr b="1" lang="en-A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8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6E46-31A4-48AE-B9FB-CA1C702BA64F}" type="slidenum">
              <a:rPr b="1" lang="en-A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oardofstudies.nsw.edu.au/syllabus_hsc/glossary_keywords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357280" y="328608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TEP 388 - DESIGNING ASSESSMENT TASK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TextBox 3"/>
          <p:cNvSpPr/>
          <p:nvPr/>
        </p:nvSpPr>
        <p:spPr>
          <a:xfrm>
            <a:off x="214200" y="6215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75f55"/>
                </a:solidFill>
                <a:latin typeface="Tw Cen MT"/>
              </a:rPr>
              <a:t>Clarify type of assessment activity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is will be influenced by.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Right Arrow 3"/>
          <p:cNvSpPr/>
          <p:nvPr/>
        </p:nvSpPr>
        <p:spPr>
          <a:xfrm>
            <a:off x="1071720" y="2786040"/>
            <a:ext cx="2286000" cy="100008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e0cba3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3714840" y="2857680"/>
            <a:ext cx="4643280" cy="2533320"/>
          </a:xfrm>
          <a:prstGeom prst="rect">
            <a:avLst/>
          </a:prstGeom>
          <a:solidFill>
            <a:srgbClr val="edddc4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The nature of the outcomes selec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The syllabus components being assess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The intellectual processes targeted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Does the outcome require students to ‘discuss’, ‘analyse’, ‘evaluate’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w Cen MT"/>
              </a:rPr>
              <a:t>The context of the task within the wider assessment progra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Describe the context of the tas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at prior learning should the students hav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at are the prerequisite skills/knowledge for completing this task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at class learning will be required to support students in working towards this assessment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at resources will be required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oes the task need to be scaffolded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Does the task require a risk assessment? (i.e. Fieldwork activities?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Prepare the tas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Check that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Allows each student to demonstrate their level of achieveme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The instructions are clear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The language level is appropria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The level of difficulty is appropriat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The tasks = the time allocatio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Is the task valid, reliable, fair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AU" sz="2700" spc="-1" strike="noStrike">
                <a:solidFill>
                  <a:srgbClr val="000000"/>
                </a:solidFill>
                <a:latin typeface="Tw Cen MT"/>
              </a:rPr>
              <a:t>Key focus: Ensuring that the task is free from bias, assesses what you want to assess and gives accurate information on each student’s achievement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700" spc="-1" strike="noStrike">
                <a:solidFill>
                  <a:srgbClr val="000000"/>
                </a:solidFill>
                <a:latin typeface="Tw Cen MT"/>
              </a:rPr>
              <a:t>Validity</a:t>
            </a:r>
            <a:r>
              <a:rPr b="0" i="1" lang="en-AU" sz="2700" spc="-1" strike="noStrike">
                <a:solidFill>
                  <a:srgbClr val="000000"/>
                </a:solidFill>
                <a:latin typeface="Tw Cen MT"/>
              </a:rPr>
              <a:t> - Will the task measure what you want it to?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700" spc="-1" strike="noStrike">
                <a:solidFill>
                  <a:srgbClr val="000000"/>
                </a:solidFill>
                <a:latin typeface="Tw Cen MT"/>
              </a:rPr>
              <a:t>Reliability</a:t>
            </a:r>
            <a:r>
              <a:rPr b="0" i="1" lang="en-AU" sz="2700" spc="-1" strike="noStrike">
                <a:solidFill>
                  <a:srgbClr val="000000"/>
                </a:solidFill>
                <a:latin typeface="Tw Cen MT"/>
              </a:rPr>
              <a:t> – Will the task give consistent results?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700" spc="-1" strike="noStrike">
                <a:solidFill>
                  <a:srgbClr val="000000"/>
                </a:solidFill>
                <a:latin typeface="Tw Cen MT"/>
              </a:rPr>
              <a:t>Equity &amp; Fairness </a:t>
            </a:r>
            <a:r>
              <a:rPr b="0" i="1" lang="en-AU" sz="2700" spc="-1" strike="noStrike">
                <a:solidFill>
                  <a:srgbClr val="000000"/>
                </a:solidFill>
                <a:latin typeface="Tw Cen MT"/>
              </a:rPr>
              <a:t>– Does the task enable </a:t>
            </a:r>
            <a:r>
              <a:rPr b="0" i="1" lang="en-AU" sz="2700" spc="-1" strike="noStrike" u="sng">
                <a:solidFill>
                  <a:srgbClr val="000000"/>
                </a:solidFill>
                <a:uFillTx/>
                <a:latin typeface="Tw Cen MT"/>
              </a:rPr>
              <a:t>all students</a:t>
            </a:r>
            <a:r>
              <a:rPr b="0" i="1" lang="en-AU" sz="2700" spc="-1" strike="noStrike">
                <a:solidFill>
                  <a:srgbClr val="000000"/>
                </a:solidFill>
                <a:latin typeface="Tw Cen MT"/>
              </a:rPr>
              <a:t> to demonstrate what they know and can do?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Develop a marking schem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The marking guidelines display the criteria for assessing the </a:t>
            </a: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achievement of outcomes and content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at the different levels and the </a:t>
            </a: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marks or range of marks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awarded at each leve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heck that students will be </a:t>
            </a: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appropriately rewarded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for the levels of knowledge, skills and understanding they demonstra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75f55"/>
                </a:solidFill>
                <a:latin typeface="Tw Cen MT"/>
              </a:rPr>
              <a:t>Effective marking schemes have...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lear criteria that distinguish between student respons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riteria that refer to aspects of performance that are </a:t>
            </a: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very important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onsistent outcomes, task instructions and rubric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rks awarded that reflect the quality of student respons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ccommodation for less predictable responses and harder to define characteristic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Trial mark your schem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rk a sample of students’ work first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If necessary, adjust the scheme to cater for responses not covered by the marking  scheme but which demonstrate achievement of the outcomes;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Key feature: Marking scheme must accommodate how students demonstrate achievement of outcom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Mark the respons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Mark the responses of </a:t>
            </a: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the whole group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en more than one class does the same task, consider </a:t>
            </a: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double or panel marking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to improve consistency and reliabilit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Key feature: All responses must be marked consistently to ensure reliability of your testing instrumen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Provide feedbac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Research supports the idea that feedback is crucial to improve the effectiveness of teaching an learn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Learning outcomes can be improved significantly through practice and quality feedba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Students need feedbac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at were the </a:t>
            </a: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strengths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weaknesses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of their performances as well as their mark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Provide feedback by annotating the marking schem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void referring to criteria </a:t>
            </a:r>
            <a:r>
              <a:rPr b="0" lang="en-AU" sz="2900" spc="-1" strike="noStrike" u="sng">
                <a:solidFill>
                  <a:srgbClr val="000000"/>
                </a:solidFill>
                <a:uFillTx/>
                <a:latin typeface="Tw Cen MT"/>
              </a:rPr>
              <a:t>not outlined</a:t>
            </a: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 in the marking schem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Consider providing comments before mark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What is assessment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ssessing student achievement is the process of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w Cen MT"/>
              </a:rPr>
              <a:t>Identifying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w Cen MT"/>
              </a:rPr>
              <a:t>Collecting dat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Tw Cen MT"/>
              </a:rPr>
              <a:t>Interpreting information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About student performance in relation to the objectives and outcomes of a cour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Key questions to ask..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at do I want to asses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y am I assess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For whom am I assessing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How should I asses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900" spc="-1" strike="noStrike">
                <a:solidFill>
                  <a:srgbClr val="b95b22"/>
                </a:solidFill>
                <a:latin typeface="Tw Cen MT"/>
              </a:rPr>
              <a:t>OUR REASONS FOR ASSESSING </a:t>
            </a:r>
            <a:br>
              <a:rPr sz="2900"/>
            </a:br>
            <a:r>
              <a:rPr b="1" lang="en-AU" sz="2900" spc="-1" strike="noStrike">
                <a:solidFill>
                  <a:srgbClr val="b95b22"/>
                </a:solidFill>
                <a:latin typeface="Tw Cen MT"/>
              </a:rPr>
              <a:t>AND THE AUDIENCE WE ARE TARGETING WILL SHAPE THE NATURE OF THE ASSESSMENT TAS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Reasons for assess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643120"/>
          <a:ext cx="7072200" cy="2200320"/>
        </p:xfrm>
        <a:graphic>
          <a:graphicData uri="http://schemas.openxmlformats.org/drawingml/2006/table">
            <a:tbl>
              <a:tblPr/>
              <a:tblGrid>
                <a:gridCol w="2663640"/>
                <a:gridCol w="440856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URPOS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ollect information about student understanding at the start of a unit of wor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ometimes pre-testing is appropria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SESSMEN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agnostic? E.g. Quiz, test, interview, oral presenta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D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he teacher – YOU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sp>
        <p:nvSpPr>
          <p:cNvPr id="315" name="TextBox 4"/>
          <p:cNvSpPr/>
          <p:nvPr/>
        </p:nvSpPr>
        <p:spPr>
          <a:xfrm>
            <a:off x="1077840" y="1643040"/>
            <a:ext cx="2103840" cy="459720"/>
          </a:xfrm>
          <a:prstGeom prst="rect">
            <a:avLst/>
          </a:prstGeom>
          <a:solidFill>
            <a:srgbClr val="bfd3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w Cen MT"/>
              </a:rPr>
              <a:t>DIAGNOSTI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Reasons for assess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643120"/>
          <a:ext cx="7072200" cy="2205000"/>
        </p:xfrm>
        <a:graphic>
          <a:graphicData uri="http://schemas.openxmlformats.org/drawingml/2006/table">
            <a:tbl>
              <a:tblPr/>
              <a:tblGrid>
                <a:gridCol w="2663640"/>
                <a:gridCol w="440856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URPOSE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hecking the ongoing progress of students in order to provide students with guidance and feedbac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t the direction for ongoing teaching and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SESSMEN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ormative – assessment for lear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8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D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d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he students, the teacher and pa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de9"/>
                    </a:solidFill>
                  </a:tcPr>
                </a:tc>
              </a:tr>
            </a:tbl>
          </a:graphicData>
        </a:graphic>
      </p:graphicFrame>
      <p:sp>
        <p:nvSpPr>
          <p:cNvPr id="318" name="TextBox 4"/>
          <p:cNvSpPr/>
          <p:nvPr/>
        </p:nvSpPr>
        <p:spPr>
          <a:xfrm>
            <a:off x="1080720" y="1643040"/>
            <a:ext cx="1954800" cy="459720"/>
          </a:xfrm>
          <a:prstGeom prst="rect">
            <a:avLst/>
          </a:prstGeom>
          <a:solidFill>
            <a:srgbClr val="f1cc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w Cen MT"/>
              </a:rPr>
              <a:t>FORMAT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Reasons for assess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71720" y="2643120"/>
          <a:ext cx="7072200" cy="2473560"/>
        </p:xfrm>
        <a:graphic>
          <a:graphicData uri="http://schemas.openxmlformats.org/drawingml/2006/table">
            <a:tbl>
              <a:tblPr/>
              <a:tblGrid>
                <a:gridCol w="2663640"/>
                <a:gridCol w="440856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URPOSE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b8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Measure student achievement against the course outcomes or standards at the conclusion of a un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Assessment for monitoring and accountability purpo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b8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SESSMEN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2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UMMATIVE TASKS such as exit examinations and te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2d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UD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he teacher, parents, students, B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1ed"/>
                    </a:solidFill>
                  </a:tcPr>
                </a:tc>
              </a:tr>
            </a:tbl>
          </a:graphicData>
        </a:graphic>
      </p:graphicFrame>
      <p:sp>
        <p:nvSpPr>
          <p:cNvPr id="321" name="TextBox 4"/>
          <p:cNvSpPr/>
          <p:nvPr/>
        </p:nvSpPr>
        <p:spPr>
          <a:xfrm>
            <a:off x="1030680" y="1643040"/>
            <a:ext cx="1909080" cy="459720"/>
          </a:xfrm>
          <a:prstGeom prst="rect">
            <a:avLst/>
          </a:prstGeom>
          <a:solidFill>
            <a:srgbClr val="c9cd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w Cen MT"/>
              </a:rPr>
              <a:t>Summativ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TextBox 5"/>
          <p:cNvSpPr/>
          <p:nvPr/>
        </p:nvSpPr>
        <p:spPr>
          <a:xfrm>
            <a:off x="1105560" y="5643720"/>
            <a:ext cx="7227720" cy="368280"/>
          </a:xfrm>
          <a:prstGeom prst="rect">
            <a:avLst/>
          </a:prstGeom>
          <a:solidFill>
            <a:srgbClr val="e0cb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w Cen MT"/>
              </a:rPr>
              <a:t>NOTE: THESE ASSESSMENT TYPES ARE NOT MUTUALLY EXCLUSIV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75f55"/>
                </a:solidFill>
                <a:latin typeface="Tw Cen MT"/>
              </a:rPr>
              <a:t>IMPORTANCE OF OUTCOMES 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w Cen MT"/>
              </a:rPr>
              <a:t>Outcomes</a:t>
            </a: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 are explicit statements of knowledge, skills and understandings that students are expected to achieve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w Cen MT"/>
              </a:rPr>
              <a:t>Outcomes</a:t>
            </a: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 drive both teaching and assessment and should ALWAYS be the focus of what you d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Which ‘learn to’ (skills) and ‘learn about’ (content) outcomes are you testing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w Cen MT"/>
              </a:rPr>
              <a:t>How do ‘learn to’ and ‘learn about’ outcomes link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775f55"/>
                </a:solidFill>
                <a:latin typeface="Tw Cen MT"/>
              </a:rPr>
              <a:t>PLANNING BACKWAR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at you are trying to get the students to demonstrat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What are the outcomes to be assessed in this task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Highlight the BoS key terms. At which cognitive level do you expect students to be operating? (Bloom’s Taxonomy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A Glossary of Key Words (HSC) - Board of Studies NS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775f55"/>
                </a:solidFill>
                <a:latin typeface="Tw Cen MT"/>
              </a:rPr>
              <a:t>Develop indicators of achieve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900" spc="-1" strike="noStrike">
                <a:solidFill>
                  <a:srgbClr val="000000"/>
                </a:solidFill>
                <a:latin typeface="Tw Cen MT"/>
              </a:rPr>
              <a:t>How will I know that students have achieved the outcom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Right Arrow 3"/>
          <p:cNvSpPr/>
          <p:nvPr/>
        </p:nvSpPr>
        <p:spPr>
          <a:xfrm>
            <a:off x="1214280" y="2857680"/>
            <a:ext cx="2071800" cy="1000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TextBox 4"/>
          <p:cNvSpPr/>
          <p:nvPr/>
        </p:nvSpPr>
        <p:spPr>
          <a:xfrm>
            <a:off x="3786120" y="2786040"/>
            <a:ext cx="4500720" cy="302004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w Cen MT"/>
              </a:rPr>
              <a:t>What evidence will I need to collect in order to determine whether  students have met this outcome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w Cen MT"/>
              </a:rPr>
              <a:t>Pay attention to BOS glossary, skills and knowledge requirement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05:37:16Z</dcterms:created>
  <dc:creator>Zarwood</dc:creator>
  <dc:description/>
  <dc:language>en-US</dc:language>
  <cp:lastModifiedBy>Aces User</cp:lastModifiedBy>
  <dcterms:modified xsi:type="dcterms:W3CDTF">2011-10-13T22:44:29Z</dcterms:modified>
  <cp:revision>69</cp:revision>
  <dc:subject/>
  <dc:title>DESIGNING ASSESSMENT TASKS</dc:title>
</cp:coreProperties>
</file>